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533-A385-4617-9A6A-FBCFDD4F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599-810B-4AF5-8AD7-41542B5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AD9-4BE2-41A7-983D-BF8048E3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67E-9B31-4BCF-8953-D3D193C1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132-84D5-4A67-9749-D29D81D2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937-648F-4FC6-8A7C-75E9A28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026F-67C9-4BC9-8E55-C1523B37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458-D5BE-4397-957A-0DD15173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7637-D690-418D-BA3E-41086BE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278-6C16-4B51-8B91-13BD672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49FC-16C1-41DB-935C-0327490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863-7B76-4D5B-BCB2-7C9CDEF3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5DE-FAB6-4582-8E12-5FEA43A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278-B11D-4404-898E-6BEF366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9319-91AF-46EE-AE58-A7AAB128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53C-71E8-405F-B54E-AB06252E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B58-7FCD-48F1-AC7B-3F7F75AB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67F-37FE-45C1-ACAC-48437403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B03-8A72-4175-960E-02DA1A3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91D-5160-4329-9A8B-140321C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836-E5AC-4E94-ACE3-05451BA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D61-326D-4AB4-89B1-08BF24F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370-CFDF-47C9-8D5E-449C04A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2B0-B501-47B7-AD8A-82A1C34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B44-D315-4844-BE16-405D296225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339-7FC4-4C7A-B333-1D16517745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Cover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above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neral Guide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an employer a lot abou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ales 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your skills a good match for the employer /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esent all of your experience here – let the resume d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one or two of you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vity =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the Cover Letter Brie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nerally compose the letter in four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e yourself and explain why you are wri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 out your key skills and accomplish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lain why you want to work for the company / attend the scho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nk the reader – invite contact and lay out the follow-up pla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in min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personal – don’t use cookie cutter greetings “To Whom It May Concern” – try to address to a specific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highlight your strongest, most applicabl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rly and concisely – this should not be more than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to keep in min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-up – how can you be reac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proofread carefully – some employers will throw a letter away if there are typographic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hr.dop.wa.gov/jobtips/cover.letter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8:12:07Z</dcterms:created>
  <dc:creator>jvanengen</dc:creator>
  <dc:description/>
  <dc:language>en-US</dc:language>
  <cp:lastModifiedBy>jvanengen</cp:lastModifiedBy>
  <dcterms:modified xsi:type="dcterms:W3CDTF">2009-07-30T18:24:14Z</dcterms:modified>
  <cp:revision>2</cp:revision>
  <dc:subject/>
  <dc:title>Creating the Cover Letter</dc:title>
</cp:coreProperties>
</file>